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669-2A14-4E1C-853B-9A7AC763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656-90E9-46A4-BB2B-DF40ED0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7AD-EDD6-404E-AAC0-3BF87981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026-211B-481E-BBA4-C61CA38B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63F1-8D1D-495C-89DD-9CC44EE0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A80A-6CFF-49CC-BDF5-A0808B6E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62F-9E32-4BDB-B892-2DE13FB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2B74-6767-46AD-A91E-C07F0FA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4604-23F5-4AFD-B584-4742BCEB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8AFC-A2D4-4AB1-82A9-874A105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89BF-D9DB-46C5-8F12-0DABB0E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BA-C681-498B-A620-3C1A196C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C053-AF2E-4E16-9E5C-6BFB210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2BB6-9993-446A-AFDC-2C700F2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D9E2-82B5-4BEA-8697-2319DC8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22E-C85C-4217-9E21-D25D3FD0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401-AB1E-4827-A2C8-A45876DE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08F-A799-4DCB-9697-C68E037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CC1-DCF1-4183-9BB2-24E9A19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AA7-29EB-4A0A-825E-24DA22A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42D-38E9-4C19-B414-1B1EFD3F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ECD-0043-4DC2-87BA-8664515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920-3B6A-470B-B80C-8DBCB10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000-912E-441E-BA99-90E79C7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FFA-2D9C-4E35-9B96-6242524D69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C54-DAA4-4619-99DC-7BE27D1FD7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ter 2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s in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report what happens in a legislative session or judicial session so long as what you say is accurate and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in a courtroom is fair to pr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in book – track coach st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 com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reviews, movie reviews, etc. are just fine because the creator has thrust himself into the spot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ssion of Error – If you are wrong, print a re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officials and public fig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one in an elected role must not only show the damage (which anyone must do) but they must also show malice (reckless disregard for the tru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difficult for public figures to win a libel case because of ma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s become fuzzy – principals are most likely public fig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sure you would want to check with a lawy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inker v. Des Moines (1969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anted to wear armbands to school – school said 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 decided that students were right to express themselves as they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E STUDY TI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azelwood (1987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valid educational purpos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 is school sponsored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id that the principal is the chief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the principal works for the government which means the government controls the paper – clear violation of the first amend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thin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ums – places where individuals can exchange ideas – if a paper is a forum it most likely will not fall under Hazelw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Y TIM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ving a Libel Sui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l was pu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s were of and concerning plainti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 was defa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 was 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ndant was at f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Remember – public figures must also prove that actual malice took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nctions of a Journal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– watch over government to see that corruption is not happ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– presenting goods and services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ry– what will change us tomorr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tainment – some light element, feature photo, co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place – forum fo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nction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-Keeping – mainly for history; cover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– passing along for people to talk to one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da Setting – telling what to th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ing water during a dr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valuating the Med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 – should cover events happ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not be self-seeking advertis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vs. 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 to the minute coverage of yesterday’s ne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s 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Time, Newsweek, and U.S. News &amp; World Report really have any true news function in today’s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of Journalis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et Cooke – gave back Pulit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yson Blair – made up quotes for NY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 Glass – made up entir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d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and Tru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license required to be a journa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doesn’t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double check those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uch thing as a small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to report stories fai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not like the KKK but you still must be ob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tch the ad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ew more things to examine (page 3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taste – don’t go for trashy s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ht of reply – simultaneous rebut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irness to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iar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ibution – always use ‘said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r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l – lies that are writ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der – lies that are spo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ress not exempt from libel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crime – this is a civil wr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alty is money judgment gen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defend against li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reporting will always shine thr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– if proof is there then you will be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bel Law (cont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ring up old problems if the person has ch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f the man who went to jail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ion is no defense – you can get into trouble for 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20:59:09Z</dcterms:created>
  <dc:creator>jvanengen</dc:creator>
  <dc:description/>
  <dc:language>en-US</dc:language>
  <cp:lastModifiedBy>jvanengen</cp:lastModifiedBy>
  <dcterms:modified xsi:type="dcterms:W3CDTF">2009-07-19T21:23:29Z</dcterms:modified>
  <cp:revision>3</cp:revision>
  <dc:subject/>
  <dc:title>Chapter 2</dc:title>
</cp:coreProperties>
</file>